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775-946B-418C-B57E-45117DDF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9F2-3DF1-45AF-A77A-5B20A69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619-99EE-4BAF-83AB-2DFA54CD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930-B244-4338-BD75-485A24B4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E1C-4A5A-4FC0-815F-B34B922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99D-0B67-4D64-B7C5-ACA01EA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3BA-51E9-452A-B8E7-BF9F765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350-0FF9-4813-AF57-04D47888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610-9499-421E-BAAC-4166E81D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BA3-9849-4CC3-8CA2-45B7AB8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3CC-C7D7-48F1-8499-E822A43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3B4-98CC-4818-B356-5B5D2ED4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4AB6-6993-45FD-95E4-66C00E8B2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57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720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01000" y="304920"/>
          <a:ext cx="81900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04920"/>
                    <a:ext cx="819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22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111111"/>
                </a:solidFill>
                <a:latin typeface="Arial"/>
              </a:rPr>
              <a:t>Amb els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gene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270540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438280" y="2133720"/>
          <a:ext cx="426744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133720"/>
                    <a:ext cx="42674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logotipo%20bajo%20coste" descr=""/>
          <p:cNvPicPr/>
          <p:nvPr/>
        </p:nvPicPr>
        <p:blipFill>
          <a:blip r:embed="rId6"/>
          <a:stretch/>
        </p:blipFill>
        <p:spPr>
          <a:xfrm>
            <a:off x="7570800" y="6108840"/>
            <a:ext cx="1573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Qué es Fressa 2012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81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¨La informática como todo el mundo. Como todo el mundo con la informática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junto de programas informáticos cuyo objetivo es ayudar a personas con dificult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001000" y="304920"/>
          <a:ext cx="81900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04920"/>
                    <a:ext cx="819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22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111111"/>
                </a:solidFill>
                <a:latin typeface="Arial"/>
              </a:rPr>
              <a:t>Amb els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_gene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270540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28600" y="228600"/>
          <a:ext cx="209556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logotipo%20bajo%20coste" descr=""/>
          <p:cNvPicPr/>
          <p:nvPr/>
        </p:nvPicPr>
        <p:blipFill>
          <a:blip r:embed="rId6"/>
          <a:stretch/>
        </p:blipFill>
        <p:spPr>
          <a:xfrm>
            <a:off x="7570800" y="6107040"/>
            <a:ext cx="1573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Dónde conseguir los program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62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ww.lagares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001000" y="304920"/>
          <a:ext cx="81900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04920"/>
                    <a:ext cx="819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111111"/>
                </a:solidFill>
                <a:latin typeface="Arial"/>
              </a:rPr>
              <a:t>Amb els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_gene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270540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28600" y="228600"/>
          <a:ext cx="209556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logotipo%20bajo%20coste" descr=""/>
          <p:cNvPicPr/>
          <p:nvPr/>
        </p:nvPicPr>
        <p:blipFill>
          <a:blip r:embed="rId6"/>
          <a:stretch/>
        </p:blipFill>
        <p:spPr>
          <a:xfrm>
            <a:off x="7570800" y="6107040"/>
            <a:ext cx="1573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06:11:31Z</dcterms:created>
  <dc:creator>jordi</dc:creator>
  <dc:description/>
  <dc:language>en-US</dc:language>
  <cp:lastModifiedBy>Projecte Fressa</cp:lastModifiedBy>
  <dcterms:modified xsi:type="dcterms:W3CDTF">2015-01-12T19:51:37Z</dcterms:modified>
  <cp:revision>24</cp:revision>
  <dc:subject/>
  <dc:title>Presentación de PowerPoint</dc:title>
</cp:coreProperties>
</file>